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1" lang="zh-CN" sz="13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D5510-F2F7-4D58-9DF6-60512EA8CB89}" type="slidenum">
              <a:rPr b="1" lang="zh-CN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F33B2-ABFC-4B6D-A01A-AE8B519DA434}" type="slidenum">
              <a:rPr b="1" lang="zh-CN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16756-10C0-4F41-9CE6-5F152A67DDFF}" type="slidenum">
              <a:rPr b="1" lang="zh-CN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FA5B8-5E58-4422-B449-5A1D519AB998}" type="slidenum">
              <a:rPr b="1" lang="zh-CN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18B6B-E700-47AD-8F21-507764175987}" type="slidenum">
              <a:rPr b="1" lang="zh-CN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2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29"/>
          <p:cNvSpPr/>
          <p:nvPr/>
        </p:nvSpPr>
        <p:spPr>
          <a:xfrm>
            <a:off x="609480" y="1143000"/>
            <a:ext cx="5791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31" descr="Lehmanbrown logo"/>
          <p:cNvPicPr/>
          <p:nvPr/>
        </p:nvPicPr>
        <p:blipFill>
          <a:blip r:embed="rId2"/>
          <a:stretch/>
        </p:blipFill>
        <p:spPr>
          <a:xfrm>
            <a:off x="6953400" y="228600"/>
            <a:ext cx="219060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32"/>
          <p:cNvSpPr/>
          <p:nvPr/>
        </p:nvSpPr>
        <p:spPr>
          <a:xfrm>
            <a:off x="2362320" y="152280"/>
            <a:ext cx="4419360" cy="914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3" descr="Lehmanbrown logo"/>
          <p:cNvPicPr/>
          <p:nvPr/>
        </p:nvPicPr>
        <p:blipFill>
          <a:blip r:embed="rId3"/>
          <a:stretch/>
        </p:blipFill>
        <p:spPr>
          <a:xfrm>
            <a:off x="152280" y="228600"/>
            <a:ext cx="2190960" cy="68580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60480" y="6407280"/>
            <a:ext cx="908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Beijing </a:t>
            </a:r>
            <a:r>
              <a:rPr b="1" i="1" lang="zh-CN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北京    </a:t>
            </a:r>
            <a:r>
              <a:rPr b="1" i="1" lang="en-US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Shanghai  </a:t>
            </a:r>
            <a:r>
              <a:rPr b="1" i="1" lang="zh-CN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上海     </a:t>
            </a:r>
            <a:r>
              <a:rPr b="1" i="1" lang="en-US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Shenzhen  </a:t>
            </a:r>
            <a:r>
              <a:rPr b="1" i="1" lang="zh-CN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深圳     </a:t>
            </a:r>
            <a:r>
              <a:rPr b="1" i="1" lang="en-US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Guangzhou </a:t>
            </a:r>
            <a:r>
              <a:rPr b="1" i="1" lang="zh-CN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广州    </a:t>
            </a:r>
            <a:r>
              <a:rPr b="1" i="1" lang="en-US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Tianjin </a:t>
            </a:r>
            <a:r>
              <a:rPr b="1" i="1" lang="zh-CN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天津    </a:t>
            </a:r>
            <a:r>
              <a:rPr b="1" i="1" lang="en-US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Hong Kong </a:t>
            </a:r>
            <a:r>
              <a:rPr b="1" i="1" lang="zh-CN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香港   </a:t>
            </a:r>
            <a:r>
              <a:rPr b="1" i="1" lang="en-US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Macau (Assoc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ehmanbrown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3"/>
          <p:cNvSpPr/>
          <p:nvPr/>
        </p:nvSpPr>
        <p:spPr>
          <a:xfrm>
            <a:off x="250920" y="1125360"/>
            <a:ext cx="86868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2971800" y="228600"/>
            <a:ext cx="32767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LEHMANBROWN.COM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971640" y="168588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hina in the next 5 year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3413160"/>
            <a:ext cx="9144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ussell Brow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Partner, LehmanBrow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Copperplate Gothic Bold"/>
                <a:ea typeface="Arial"/>
              </a:rPr>
              <a:t>International Accounta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24000" y="1413000"/>
            <a:ext cx="835164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ed Growth – Average 7% plus but domestic demand and private business driving more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ndustries - More opening up of some Prohibited and Restricted Industries to provide opportunities for foreign companies – e.g. Healthcare, Insurance, Banking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Bureaucracy – Streamlining and simplification – Currently worse now than 10 years ago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Currency – Continued relaxing of currency controls for trade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Taxation – Reduction in Corporate Tax (25%) and Individual Income Tax rates (5 – 45%) to become more competitive with the region, but greater penalties for non-payment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Taxation incentives – Focused industry incentives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China Outbound – Increase in Chinese overseas direct investment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168720" y="33336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ext 5 years - Positiv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24000" y="1413000"/>
            <a:ext cx="8351640" cy="44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High registered capital requirements in area where they are being selective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Expatriates – Continuation of selectiveness for Visas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Expatriates – Change in taxation structure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Regional tensions over disputes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 and its impact on China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ing trade disputes between China and USA and Europe / WTO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168720" y="33336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ext 5 years - Negativ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028"/>
          <p:cNvSpPr/>
          <p:nvPr/>
        </p:nvSpPr>
        <p:spPr>
          <a:xfrm>
            <a:off x="2743200" y="357120"/>
            <a:ext cx="3900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China  outbound direc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27"/>
          <p:cNvSpPr/>
          <p:nvPr/>
        </p:nvSpPr>
        <p:spPr>
          <a:xfrm>
            <a:off x="533520" y="1447920"/>
            <a:ext cx="80010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y IP or rights to IP, or obtain licensing right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y into the ability to produce IP or contract this ability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y solid distribution channel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y international expert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y brands, best in class approach, long term investment view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ment immigration / student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PO (Nasdeq, AIM, TSX, etc) – if accounting issues can be resolved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nancing (VC / PE etc.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3"/>
          <p:cNvSpPr/>
          <p:nvPr/>
        </p:nvSpPr>
        <p:spPr>
          <a:xfrm>
            <a:off x="0" y="6324480"/>
            <a:ext cx="9144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228600" y="1143000"/>
            <a:ext cx="86868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468360" y="1916280"/>
            <a:ext cx="26035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j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: +86 10 8532 1720 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+86 10 6532 3270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jing@lehmanbrown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5867280" y="1916280"/>
            <a:ext cx="27561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rl River Delta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: +86 755 8209  1244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+86 755 8209 0672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nzhen@lehmanbrown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908000" y="5516640"/>
            <a:ext cx="5042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WW.LEHMANBROWN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" descr=""/>
          <p:cNvPicPr/>
          <p:nvPr/>
        </p:nvPicPr>
        <p:blipFill>
          <a:blip r:embed="rId1"/>
          <a:stretch/>
        </p:blipFill>
        <p:spPr>
          <a:xfrm>
            <a:off x="3200400" y="1916280"/>
            <a:ext cx="2282760" cy="33130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2"/>
          <p:cNvSpPr/>
          <p:nvPr/>
        </p:nvSpPr>
        <p:spPr>
          <a:xfrm>
            <a:off x="324000" y="3645000"/>
            <a:ext cx="2755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ngha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: +86 21 6249 0055 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+ 86 21 6288 1636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nghai@lehmanbrown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5"/>
          <p:cNvSpPr/>
          <p:nvPr/>
        </p:nvSpPr>
        <p:spPr>
          <a:xfrm>
            <a:off x="60480" y="6407280"/>
            <a:ext cx="908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Beijing </a:t>
            </a:r>
            <a:r>
              <a:rPr b="1" i="1" lang="zh-CN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北京    </a:t>
            </a:r>
            <a:r>
              <a:rPr b="1" i="1" lang="en-US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Shanghai  </a:t>
            </a:r>
            <a:r>
              <a:rPr b="1" i="1" lang="zh-CN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上海     </a:t>
            </a:r>
            <a:r>
              <a:rPr b="1" i="1" lang="en-US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Shenzhen  </a:t>
            </a:r>
            <a:r>
              <a:rPr b="1" i="1" lang="zh-CN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深圳     </a:t>
            </a:r>
            <a:r>
              <a:rPr b="1" i="1" lang="en-US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Guangzhou </a:t>
            </a:r>
            <a:r>
              <a:rPr b="1" i="1" lang="zh-CN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广州    </a:t>
            </a:r>
            <a:r>
              <a:rPr b="1" i="1" lang="en-US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Tianjin </a:t>
            </a:r>
            <a:r>
              <a:rPr b="1" i="1" lang="zh-CN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天津    </a:t>
            </a:r>
            <a:r>
              <a:rPr b="1" i="1" lang="en-US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Hong Kong </a:t>
            </a:r>
            <a:r>
              <a:rPr b="1" i="1" lang="zh-CN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香港   </a:t>
            </a:r>
            <a:r>
              <a:rPr b="1" i="1" lang="en-US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Macau (Assoc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2500200" y="285840"/>
            <a:ext cx="4143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ank you  -  Any ques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6:12:16Z</dcterms:created>
  <dc:creator>Mike</dc:creator>
  <dc:description/>
  <dc:language>en-US</dc:language>
  <cp:lastModifiedBy>Kenneth Mayers</cp:lastModifiedBy>
  <dcterms:modified xsi:type="dcterms:W3CDTF">2012-08-31T00:59:19Z</dcterms:modified>
  <cp:revision>97</cp:revision>
  <dc:subject/>
  <dc:title>PowerPoint Presentation</dc:title>
</cp:coreProperties>
</file>