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9F0D3-137A-4453-9232-88DC3120CC72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0C926-A026-4408-B892-E1FCBA982406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y main taxes are turnover and income, but need to take all into account when doing cross border tax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D0C79-5599-4575-8C79-992BDAE044FA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895F2-8AD7-431E-A779-694DC63F12BD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D8FD8-2709-461D-B120-1BB9EB543E3E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2675B-38BE-4A3E-905C-3376E5AD5B30}" type="slidenum">
              <a:rPr b="1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38977-AC54-432F-AAE5-E262CF6790FD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609480" y="1143000"/>
            <a:ext cx="5791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1" descr="Lehmanbrown logo"/>
          <p:cNvPicPr/>
          <p:nvPr/>
        </p:nvPicPr>
        <p:blipFill>
          <a:blip r:embed="rId2"/>
          <a:stretch/>
        </p:blipFill>
        <p:spPr>
          <a:xfrm>
            <a:off x="6953400" y="228600"/>
            <a:ext cx="2190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32"/>
          <p:cNvSpPr/>
          <p:nvPr/>
        </p:nvSpPr>
        <p:spPr>
          <a:xfrm>
            <a:off x="2362320" y="152280"/>
            <a:ext cx="44193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3" descr="Lehmanbrown logo"/>
          <p:cNvPicPr/>
          <p:nvPr/>
        </p:nvPicPr>
        <p:blipFill>
          <a:blip r:embed="rId3"/>
          <a:stretch/>
        </p:blipFill>
        <p:spPr>
          <a:xfrm>
            <a:off x="152280" y="228600"/>
            <a:ext cx="2190960" cy="68580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60480" y="6407280"/>
            <a:ext cx="908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Beiji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北京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anghai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上海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enzhen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深圳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Guangzhou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广州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Tianjin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天津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Hong Ko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香港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Macau (Assoc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ehmanbrown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250920" y="1125360"/>
            <a:ext cx="86868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971800" y="228600"/>
            <a:ext cx="3276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LEHMANBROWN.CO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71640" y="16858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na Taxation Incentives Overvie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341316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ssell Br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Partner, LehmanBr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Copperplate Gothic Bold"/>
                <a:ea typeface="Arial"/>
              </a:rPr>
              <a:t>International Accoun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507672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5076720" y="278136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3429000"/>
            <a:ext cx="89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2"/>
                </a:solidFill>
                <a:latin typeface="Arial"/>
                <a:ea typeface="宋体"/>
              </a:rPr>
              <a:t>PR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2"/>
                </a:solidFill>
                <a:latin typeface="Arial"/>
                <a:ea typeface="宋体"/>
              </a:rPr>
              <a:t>Ta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760840" y="1181160"/>
            <a:ext cx="190476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alue Added Tax (VA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760840" y="1638360"/>
            <a:ext cx="190476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usiness Tax  (B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760840" y="2095560"/>
            <a:ext cx="190476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onsumption Tax (C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771640" y="2708280"/>
            <a:ext cx="190512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orporate Income Tax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771640" y="3357720"/>
            <a:ext cx="190512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dividual Income Tax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IT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743880" y="3836880"/>
            <a:ext cx="1904760" cy="38124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and Appreciation Tax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AT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771640" y="5418000"/>
            <a:ext cx="1905120" cy="38124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source Tax (R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804000" y="2060640"/>
            <a:ext cx="180036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tamp Duty  (SD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6794640" y="2544840"/>
            <a:ext cx="180972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ed Tax (D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1042560" y="184464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000080" y="1860480"/>
            <a:ext cx="0" cy="381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971640" y="5715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H="1">
            <a:off x="1353600" y="4495680"/>
            <a:ext cx="1764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236600" y="438156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Asset Ta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160640" y="163836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Turnover Ta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1008000" y="3068640"/>
            <a:ext cx="14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1236600" y="293364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Income Ta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1008000" y="3860640"/>
            <a:ext cx="40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5292720" y="263700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Behavior Ta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076720" y="27813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193760" y="5370480"/>
            <a:ext cx="12193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Resource Ta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076720" y="58053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7"/>
          <p:cNvSpPr/>
          <p:nvPr/>
        </p:nvSpPr>
        <p:spPr>
          <a:xfrm flipH="1">
            <a:off x="6516360" y="23493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8"/>
          <p:cNvSpPr/>
          <p:nvPr/>
        </p:nvSpPr>
        <p:spPr>
          <a:xfrm flipH="1">
            <a:off x="6565680" y="278280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9"/>
          <p:cNvSpPr/>
          <p:nvPr/>
        </p:nvSpPr>
        <p:spPr>
          <a:xfrm flipH="1">
            <a:off x="6565680" y="31827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551640" y="235584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 flipH="1">
            <a:off x="2531880" y="1333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H="1">
            <a:off x="2531880" y="2324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2532240" y="13334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H="1">
            <a:off x="2555640" y="285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 flipH="1">
            <a:off x="2531880" y="3619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2556000" y="28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H="1">
            <a:off x="2555640" y="41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 flipH="1">
            <a:off x="2531880" y="5067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2532240" y="41529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6514920" y="406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H="1">
            <a:off x="651636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6515280" y="4065480"/>
            <a:ext cx="14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3"/>
          <p:cNvSpPr/>
          <p:nvPr/>
        </p:nvSpPr>
        <p:spPr>
          <a:xfrm>
            <a:off x="5224320" y="566100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Customs Du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4"/>
          <p:cNvSpPr/>
          <p:nvPr/>
        </p:nvSpPr>
        <p:spPr>
          <a:xfrm>
            <a:off x="2771640" y="4848120"/>
            <a:ext cx="1905120" cy="38124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and Use Tax  (LU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5076720" y="436572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宋体"/>
              </a:rPr>
              <a:t>Special Purpose</a:t>
            </a:r>
            <a:r>
              <a:rPr b="1" lang="en-US" sz="9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6805440" y="3019320"/>
            <a:ext cx="1798920" cy="38124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ehicle and Vessels Tax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6732720" y="5661000"/>
            <a:ext cx="190476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ustoms Dut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 flipH="1">
            <a:off x="6516360" y="4508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6760" y="260280"/>
            <a:ext cx="4002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verview of the China’s Tax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0"/>
          <p:cNvSpPr/>
          <p:nvPr/>
        </p:nvSpPr>
        <p:spPr>
          <a:xfrm>
            <a:off x="990720" y="4572000"/>
            <a:ext cx="304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1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2771640" y="3933720"/>
            <a:ext cx="1905120" cy="38124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al Estate Tax (RET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6732720" y="4292640"/>
            <a:ext cx="1904760" cy="38088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Urban Construction an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Maintenance Tax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6732720" y="4797360"/>
            <a:ext cx="1904760" cy="381240"/>
          </a:xfrm>
          <a:prstGeom prst="rect">
            <a:avLst/>
          </a:prstGeom>
          <a:gradFill rotWithShape="0">
            <a:gsLst>
              <a:gs pos="0">
                <a:srgbClr val="00e8ab"/>
              </a:gs>
              <a:gs pos="50000">
                <a:srgbClr val="ffffff"/>
              </a:gs>
              <a:gs pos="100000">
                <a:srgbClr val="00e8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and Occupying Tax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5"/>
          <p:cNvSpPr/>
          <p:nvPr/>
        </p:nvSpPr>
        <p:spPr>
          <a:xfrm>
            <a:off x="2268360" y="4508640"/>
            <a:ext cx="2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68360" y="1417680"/>
          <a:ext cx="8229600" cy="4675320"/>
        </p:xfrm>
        <a:graphic>
          <a:graphicData uri="http://schemas.openxmlformats.org/drawingml/2006/table">
            <a:tbl>
              <a:tblPr/>
              <a:tblGrid>
                <a:gridCol w="2158920"/>
                <a:gridCol w="6070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x r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licable Enterpris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l tax resident enterprises other than those mentioned below (transitional to 2012 for existing tax holiday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lified high-technology enterprises, regardless of the location of the enterprises in Chin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all and thin-profit enterprise, including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nufacturing enterprise: yearly taxable income not exceed RMB 300k, employee not exceed 100, total assets not exceed RMB 30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ther enterprise: yearly taxable income not exceed RMB 300k, employee not exceed 80, total assets not exceed RMB 10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9"/>
          <p:cNvSpPr/>
          <p:nvPr/>
        </p:nvSpPr>
        <p:spPr>
          <a:xfrm>
            <a:off x="2820960" y="398520"/>
            <a:ext cx="3695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mmary of new corporate tax law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28600" y="1204920"/>
            <a:ext cx="86868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igning of more Double Tax treaties with 5% WHT, lower than std 10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x free for Agriculture, Forestry, Animal, and Fish indus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x incentive for infrastructure, environment protection, water saving and high technology industry (3yr free + 3 yr 50% of rat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ation of Go West Policy (15%) to 2020 for nominated industr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-tech (15%) and in 6 SEZ’s 2 yr free plus 3 yr 50% of ra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er of “Qualified” technology – 1st RMB5m tax free, 2nd RMB5m at 50% of applicable rate of tax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esearch &amp; Development expense for new technology, new product can have 50% additional deduction (e.g. 150%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wages of disable employees can have 100% additional deduction (e.g. 200%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宋体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宋体"/>
              </a:rPr>
              <a:t>Outsourcing industry 15% in 15 citi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宋体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宋体"/>
              </a:rPr>
              <a:t>Healthcare incentives provided in form of tax, rebates and Govt gra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20960" y="398520"/>
            <a:ext cx="4343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centives provided / likely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3640" y="285840"/>
            <a:ext cx="5867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i 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185840"/>
            <a:ext cx="836316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(2) Products/Services of the enterprise within the scope of the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Catalogue: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atalogue contains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</a:rPr>
              <a:t>8 Domai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lectronic informa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iological and medica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iation and space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w material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-Tech services (extended to include information creation and B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w energy and energy conserva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s and environmenta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ormation of traditional sectors through high-new tech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der each Domain, the scopes of the activities are specified with very fine detai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there are 51 types and 218 items detailed for the 8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57120" y="1214280"/>
            <a:ext cx="856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tabLst>
                <a:tab algn="l" pos="0"/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Rate from 5 to 45%, high amount over RMB80,000 per mont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Tax free allowance RMB4,60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Fringe benefits, e.g. housing, tax exemp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Overseas Insurances are taxable thoug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Expats have to pay into local social welfare scheme (from Oct1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Guide is maximum benefits 40% of fixed packag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Bonus also taxable a lower rat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749160"/>
                <a:tab algn="l" pos="11430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553480" y="33336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Individual Income Tax Plann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0" y="632448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28600" y="1143000"/>
            <a:ext cx="86868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68360" y="1916280"/>
            <a:ext cx="2603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j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6 10 8532 1720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6 10 6532 3270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jing@lehmanbrown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867280" y="1916280"/>
            <a:ext cx="2756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rl River Delt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6 755 8209  1244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6 755 8209 0672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nzhen@lehmanbrown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908000" y="5516640"/>
            <a:ext cx="5042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LEHMANBROWN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3200400" y="1916280"/>
            <a:ext cx="2282760" cy="3313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324000" y="3645000"/>
            <a:ext cx="2755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ngha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6 21 6249 0055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 86 21 6288 1636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nghai@lehmanbrown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60480" y="6407280"/>
            <a:ext cx="908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Beiji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北京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anghai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上海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enzhen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深圳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Guangzhou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广州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Tianjin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天津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Hong Ko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香港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Macau (Assoc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500200" y="285840"/>
            <a:ext cx="414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ank you  -  Any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6:12:16Z</dcterms:created>
  <dc:creator>Mike</dc:creator>
  <dc:description/>
  <dc:language>en-US</dc:language>
  <cp:lastModifiedBy>Kenneth Mayers</cp:lastModifiedBy>
  <dcterms:modified xsi:type="dcterms:W3CDTF">2012-08-31T01:01:17Z</dcterms:modified>
  <cp:revision>96</cp:revision>
  <dc:subject/>
  <dc:title>PowerPoint Presentation</dc:title>
</cp:coreProperties>
</file>